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976C-E308-42C7-9AB2-2B631F7EB93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EF14-F10B-4632-86C1-5F8AAA4C162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5DD8-CF54-4BBE-BA7A-48D6583100D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AD35-4B55-4371-A25A-6CCE52D4C23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A126-2AC8-460D-AEC5-5B465EAF225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F11E-CFA3-4E20-BB1F-8A5472281F5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EBBB-44F0-479C-BF8A-C3B46261948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B41D9-9A3E-40DA-9412-EB66D66576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31028-FDA0-4B08-BB99-6EAE0B139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60210-8853-45EB-9EAB-00CE9B7A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5EBFD-054B-4BE9-84BE-D3DD0796EA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13E21-105A-4479-962C-27A5D50E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2F8D8-3E3B-4227-B4F3-4B8A6857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197CA-92A3-495A-9BA0-BDDCD9C5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39AAC-AEF1-4DA7-9FA1-79EDD1EEB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D3CB1-AA46-428B-BBD3-73887CE18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30019-0F83-49EB-97AA-E7791043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301BB-E07C-4BFB-AB51-2F0E9C32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BD33C-98CC-4FF3-A3C1-52670036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862D-8030-4D0E-A770-60320A2E854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三十五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影响免疫功能药物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治疗自身免疫性溶血性贫血的首选药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磷酰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硫唑嘌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甲氨蝶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波尼松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白消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1557000"/>
            <a:ext cx="79437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免疫抑制剂和免疫增强剂的临床常用药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免疫抑制剂的作用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常用的影响免疫功能药物的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50920" y="1267920"/>
            <a:ext cx="8664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圆角矩形 1"/>
          <p:cNvSpPr/>
          <p:nvPr/>
        </p:nvSpPr>
        <p:spPr>
          <a:xfrm>
            <a:off x="539640" y="1125360"/>
            <a:ext cx="8280360" cy="53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162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3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主因“间断咳嗽、咳痰、发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年，加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月余”入院。入院查体：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8.5 ℃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12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，双肺可闻及小水泡音，右手中指两侧有粟粒样结节，食指红肿，伴触痛，右足趾肿胀，可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mm×5mm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紫癜，余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-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。实验室检查：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WBC 1.7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  <a:ea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红细胞沉降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10mm/h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反应蛋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73ug/ml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类风湿因子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。医生考虑为变态反应性疾病，医嘱给予地塞米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mg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id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静脉滴注，地塞米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0mg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、庆大霉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6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U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喷咽，每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4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次。给药后患者体温逐渐降至正常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5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天后症状明显改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圆角矩形 1"/>
          <p:cNvSpPr/>
          <p:nvPr/>
        </p:nvSpPr>
        <p:spPr>
          <a:xfrm>
            <a:off x="755640" y="2205000"/>
            <a:ext cx="7777080" cy="29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1b8e3"/>
              </a:gs>
              <a:gs pos="100000">
                <a:srgbClr val="f7ebf8"/>
              </a:gs>
            </a:gsLst>
            <a:lin ang="16200000"/>
          </a:gradFill>
          <a:ln w="9360">
            <a:solidFill>
              <a:srgbClr val="9762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请思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 地塞米松治疗该病的作用原理和临床应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地塞米松的不良反应和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免疫抑制剂是一类非特异性地抑制机体免疫功能的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作用特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用缺乏特异性和选择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对初次免疫应答反应抑制作用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 药物作用与给药时间和抗原刺激的时间间隔及先后顺序密切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多数免疫抑制剂尚有非特异性抗炎作用，抑制红、肿、热、痛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第一节 免疫抑制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755640" y="1628640"/>
            <a:ext cx="79200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皮质激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孢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硫唑嘌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他克莫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第一节 免疫抑制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免疫增强剂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免疫增强剂是指可激活免疫活性细胞、增强机体的特异性或非特异性免疫功能或能加速诱导免疫应答反应，使低下的免疫功能恢复正常的一大类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卡介苗、干扰素、胸腺激素、左旋咪唑、香茹多糖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植物药增强免疫功能的主要有效成分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生物碱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有机酸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黄酮苷类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多糖类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植物雌激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常用于器官移植的免疫抑制剂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强的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磷酰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孢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硫唑嘌呤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甲氨蝶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53:28Z</dcterms:modified>
  <cp:revision>105</cp:revision>
  <dc:subject/>
  <dc:title>内科护理学</dc:title>
</cp:coreProperties>
</file>